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DB90E-1D3F-4622-9AAC-2232DE9E55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07452-79B2-4679-A113-D567AA1FA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CEE7287-26A8-490C-A606-D508B4D1B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9F85E86-C064-4C59-B2AC-15C32542C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ADA9967-A52F-4FB4-9EBE-971A25F2D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F4D2A55-9BC8-4F4E-80DE-237D55B11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BDABA6-39F5-488C-8073-D3F7B0535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9CAF9E3-DD9A-482A-93F9-A8B72FCD9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254CD6C-B4F9-438A-A6BB-FB21BDAD4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2E29B1D-D6EC-4FBC-A976-6641F94F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E6596A6-D660-4082-ABB3-A3C7E681D3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727406-A3A8-4DC0-B688-F3EE912D6D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6042A-5D70-44B6-B082-9CB1454C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9621A-A968-4511-BD21-2C0ABFF5D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1E562-F7B7-412C-8B9E-51E23D748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ADB91-DC25-49C5-BAA1-193C0090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A7EAF-104C-442E-A352-FAB9A3C36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AC319B-BF7A-4AFC-B979-CC901B2EF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5B32B-55F7-4A78-BB5F-03CD5B064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505AA-8A8B-445A-B900-05A4A7FD5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8830E-D937-4538-945B-BF3F4885A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CB649-60C8-4904-912A-9CE3F4A2B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3B805C-CD5E-4D6A-9C52-C5062C5D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9F575-81F1-46E1-AD7F-1CD72135C2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6E34BB-DAC4-4CC0-A960-8EF6C68F7B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FE5891-927C-4600-8D1E-7C1CCDE9E9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66BF0A-0DE1-4C70-A698-A138B9373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DD7BC0-FF53-4815-82B6-518A09FF7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DEB28B-8603-43AA-9958-7D75236B8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7F0A6B5-39B9-45EE-9741-615335A05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14CC75-C81E-4241-A9A0-A4E67020B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B05B45-C98D-4073-8FD2-B926CE891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616F0B-B5DB-4F78-8E35-F7103B83B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057E17-FA01-4231-BEDA-923B32BA3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FC9F26-684D-4375-8A8E-633921D23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F759B5-98D4-42D0-BFDF-B3B3007AF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3742C5-5008-4E15-868E-5ADD9A79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973B28-2D18-4C1E-B45F-292553B0AD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8CD296-E27C-4887-BE26-E253BA06B0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DDE7A2-9D15-4A51-9C77-37D9E75FD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3A0A7B-3D59-4539-8868-97877529B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E4652F-7E6C-4233-AFD4-E4C91E96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249250-4F97-4AD1-A921-96032C513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57FA75-C233-4112-8034-0389272A6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5DE800-B042-4B75-8820-91982C72B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4B4118-B621-4F2E-AF60-988CE070F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19D5F2-4E62-42F1-B01D-F42158CAD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5A6B11-9903-4870-B1E1-6DDA4755B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BF5848-BB27-4E74-8275-14A857E2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DC9389-B6CE-4F67-947A-3715825F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016A1F-F282-4DA2-83A3-65C3FA1546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EE8DA2-B55D-4BC9-9FE1-99502A9BCA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D1B9EE-366F-4C01-9F4E-F747F00D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F2F283-7938-4270-8979-6E9E0BF0E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D37ACC-B564-4945-AA93-3DA41E6FE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5AF114-7771-40CC-B88D-5C07634CA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F72CC4-B7E6-495F-9AF6-889A31E2C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30CEAE-3BDC-4A34-8AC2-D70601E66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7FA706-FBF2-4EE4-834F-61C0F39AF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FA2353-EB96-45B5-B09C-BDDDC9129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52B9D9-38DB-4929-9C64-DF9FED14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8B5304-CB13-4E7E-8EE5-D4201EC2B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DB2EF1-4E5A-4D51-BE2F-8529399D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916091-882B-49B2-B9DE-84EDF950CA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A705BB-C603-4D1A-9086-2C5D11F5F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7B939F-2AB5-4C9D-877F-9A784312A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8A5746-3D1D-48D2-84A7-9189FEFD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49EF66-0165-4E29-9828-73F5F7162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F153C1-80CC-4E69-92AA-7645FD709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144EB5-FC8A-4274-8053-44F622D43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8587A0-3FE3-484A-96C8-896060333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66188B-300E-422A-8956-420F89FF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2C354D-D887-4864-9D8C-99AB90C5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B24E35-611E-40C2-A1F2-8B3970B4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07588E-F89C-4822-9E00-B7706ED8C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2E738A-5CA3-467E-8626-114C9036E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5A0E20-97E1-4423-893D-E834692BE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FABFD9-EB43-44DD-8584-610AD9B7E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E6C9F4-710A-4BA1-A423-A82D0D876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9285F1-DAAE-4828-87C0-DF5FE8D12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C6963F-FEA1-4DF2-B559-E437A6C43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16301F-95D2-4F12-9E00-678009BC0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036CD5-1676-43BD-9DD5-CB156E933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73FE06-70AB-4147-89B7-0B54AF467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38F6C2-DBAA-4FC5-8303-9EA72EFC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03B85C-8D15-46B3-9432-7732976F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4675A3-DDB2-4C5E-911E-BD8CDCC2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F56633-87D3-4B10-B96A-F93194802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850A4F-FFCF-40C5-BE91-1C27B33E1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27473B-C443-4F1E-8839-191538FCC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14A275-A4A6-4F84-A8C1-70126E885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C5C86E-1FCA-4EAB-9EB6-B44DD0579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6EC2B3-C2EB-491D-9BAD-5B4E2D185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BE01B6-5D3B-4C57-82DC-E568B0CDE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5DDABA-7BF6-483A-8DF7-01CDB4A74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AC1FA5-64C9-48C4-AF8E-44EB950CE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AEAEE8-8F2F-4846-9A18-EDE5BEB48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C4BC50-F540-43B7-9AE1-68BA79E6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B85FD5-22C4-4354-9719-01290D15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98AB29-83D5-4C91-9CEF-C9346A83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54AAC3-38D0-495A-9F16-ACD68C2E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7A9A4D-70BB-496D-82CA-58540E1F2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5A1A10-AE0E-46C4-A467-A2A89A0EF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5BF490-6EBF-45DD-B897-81302E5CF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4504E6-857A-44C1-A6CA-DEBA42C9F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BE2290-4766-40B7-80A0-C9219B77E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086055-EA2B-4DF0-A1CD-B93968100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80D24A-540E-494D-BAAD-229AF1B10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2EB06F-DCCD-4784-9CC8-D4719460A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69D612-61BD-4AE8-8EB5-25ABD958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F52DE5-D2F5-463D-8B6F-F8F9A763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A530C-8703-4315-85BD-C17D35074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8B79D6-B2CD-4AE0-A4F9-4287AA73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A4D88E-E0C4-4FD5-92C9-0D9F86A0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A833FA-0E42-465B-A528-336045E0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EFCAA0-3E92-4BA5-85D8-0BAE88972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CE33F1-ED39-4AA2-A7BA-869700CE0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C766F6-70D4-4759-BFE0-8C5C3A150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1641A3-18A7-425B-9F64-98FC694C0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9D7241-3419-4699-82FB-B93C8174A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9DA2F2-2637-4A6F-831E-0B3DB5652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E967A1-7674-44B7-BD09-5FB8131B9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C2432A-5425-4A8C-9675-3AA2A1E19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95A537-2E70-4825-83DA-ECBCF03B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8B2DBE-3E1B-4339-9F92-83023EA58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1A38AA-CBB2-431B-929A-78E314A2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F1CC2E-CAC3-4F37-B9FF-057A5893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E70A81-46CB-4BFE-B4B7-4387CE66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AEE9A1-B317-4724-8F2B-47B2751E0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9529E2-764F-4428-BA00-D65D5F6FC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665BD0-0087-4F59-9AA3-0B1EB469F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A309E3-F9D1-4CA2-88EF-B8621112B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2D9545-AADD-41DB-B72D-172C9A857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572147-C483-45D0-95AF-C9F708073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356480-B0F4-445F-B3CE-F025D02AF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C91151-C5F8-4BF5-B9C8-1376BD0D4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0EF518-B54B-45AC-BA22-D637C2163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CA0A22-FB95-41D1-917B-565DB317B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057AA1-4B11-4C1E-9F03-8E5EC2E3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E3B6F4-8461-405A-ABB0-2FCE275A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768F8E-87D5-47C5-90D8-A38D39AF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EE6D0B-56C9-43BA-930A-6998405A5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4EE8BE-8731-4A2D-985F-3A4469E77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41ED45-7EDE-4BFA-9D0F-E65918147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3E9DAF-203B-440C-BBC1-244AAF85E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0FB708-5010-4F32-ACCC-E52CBAC3E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A11A93-EE42-41D4-AC54-B4725CC43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13BE23-E657-439A-88E9-2E5463346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27AEB7-FE82-4B24-B801-C214D7237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051EB6-F55C-4804-911F-E69D04221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156184-AB13-4476-BC8E-405B8F4CB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B1C01F-4055-4C3D-B3C3-6ABDA152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17FCAA-584C-4AC2-AB35-7E10FF24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1D747E-554A-4984-98DD-538ADC4B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64EF3B-A8D0-4D37-A0CA-5F553879C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70A184-60A9-499E-9EAE-238AE20C9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F60529-6A64-4302-B7B5-DCCD706BD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375571-574F-4074-9304-193EBD37A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026BE5-992C-45EE-8A9C-990F60EFD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F7C7FC-446A-421D-9B68-B458BE9C2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C06DB5-EB5C-405E-ADC2-9207E7FA8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18E53C-A93D-44B6-B550-67E0928A8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AB8466-9BD5-4CC0-AB80-0A971F3AE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4944DC-F41D-44A3-A528-CA8682141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A0AE43-1E71-4D96-9B37-0C4122DE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855BBB-28E5-499F-9556-10F69DEB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6784B6-A2C3-45BE-8543-988ED0A6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2166B0-D41C-4DEA-8523-41072FD616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8A2E02-C534-466C-9655-6812AC796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90553D-B0C3-4681-A96C-E62D30397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BF3311-A250-4581-9D48-4D0401896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D672F1-D8CC-4299-91B8-4F0D487ED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6F73CE-DABE-4DAC-82BD-BFFFE46CF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5B63AB-C219-43D1-A4D8-055DEE1AB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0A6D9A-7A54-4A7B-A8D6-8200D7F22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EFBF4E-992B-4D24-A72B-6A1733038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32532B-6716-4F38-9137-A3D319138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37985D-D8E9-4553-B826-E1C148C5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439262-D30A-46AF-9CE7-EA7C5DE7B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3A62DC-D35B-481E-A36B-3F6FAD97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BA7331-93E2-48EB-99C5-884DAC80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A0941E-44A5-4EB3-8A75-B5262D642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5272B2-86F3-4916-B72F-C8721DEFF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9A0997-571D-4919-A472-750EA930B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759200-AD17-410C-9B0F-F48A11977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DDEAD1-9A0B-4223-899A-DA3A5A323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2502E5-1C16-4FF9-B413-84B0CE30A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F35C92-C92C-4F6C-BDE9-8EA10D042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371263-46AB-47CF-9C88-8B6DA8313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B84FDA-D22E-4A80-B72E-DE3974001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D2404B-753A-444A-BE69-4C9AD4C29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A70BFD-5B6D-41B2-B0A5-3C41BBF4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2A5913-4295-4EFC-8E39-98D9C587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BABA12-893F-4EE1-A23D-69AE10D4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BF2ECD-0738-4F1B-9E22-58F7BA6A1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275B3D-AE1D-44CF-B89F-376D05839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4B9AD4-A4FA-48D5-9EDF-122BF99F1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D0B13B-004A-445C-BA87-99EDB54FD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D5A687-1601-4BEF-800B-5DD599E99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8C176C-D51C-45ED-B063-F7BC12C3D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5CF09F-6AD9-48BF-A3D1-F3AF79894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272406-3238-4069-A0CB-B43E269AB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13F544-F839-44B7-A474-F885F3325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F6EA1D-31B3-475B-BADD-0BC07E657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752344-74BD-4171-87B4-3C2FEA04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984683-29A9-461C-BD4A-0B6B2C3E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DF094B-72C6-4EB9-95A1-5127668C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04F87C-36ED-4CC7-9002-DA7DCE4E3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90FF35-4C0A-457B-9120-69677D1B5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13A50B-922E-4DDA-9922-DBC9B037D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193A6D-61FD-4BD7-A8E3-24E483425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9E650-2241-4EA6-8C91-086C62248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F7D80E-2AFC-4C82-971A-060D02F9F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44C8F3-8BF6-406D-8BAE-AA53AFA14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7E8C31-BB29-4C7F-AAD3-AC889AA41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D9BCD0-DE2E-48AF-9CC1-3761F842E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7D901D-34A6-4634-8623-E2E2A02EF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7E7F61-2750-4121-A4E9-8160B090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E245A2-F518-4249-9A23-19C36C7476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B1795-C740-467E-B73B-E38EB3C767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FAFA2-6AAC-4458-8645-3C4C1EDEF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EA36A-7EBA-46DF-9F3D-41C425EB9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EFFFA-4D62-4BDA-A166-2A6644443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BC172-49E0-48EB-B786-BD2F84D2D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FA697-3650-4766-BE50-108818A78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C4EED-D3AF-4A89-9714-15232EA7E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40FA5-0EBC-4FDE-842C-29AA4216F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F0B2C-9F48-45CB-94FC-B79D66300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0482D-D377-4E64-9C5F-4B0081C2B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232A8-A8D8-419E-9957-317E17224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A68D6-7ACB-4A01-8F17-3FA70310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8FF9E-D5A2-4BC1-A666-8D6AF960B4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5BED7F-10D1-44EC-A310-09C1EB9922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D7131-D5D1-40AE-BAEF-9ABD53E3E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DA3D8F-188E-40BC-8572-28FDDFD38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5A68AA-12A0-4C93-9169-080AEE3D0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42CD23-1DE2-4A93-9BCA-74414AFB6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19EC3F-5965-49A4-BCC2-6D78DDEA2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193288-9AA7-49C1-9C8A-C8F1D6296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76FE46-15BC-4AAA-B55F-A94B61649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684C25-9AE1-4FA9-9FE1-0F0192FC4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85F9F9-351D-4AC5-A1A1-B0F438F2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41AE5F-6BCB-41BC-B87A-B075A104E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3C1499-700E-4CD0-BF6E-863D2957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A50D3-EE7C-4943-A6D2-5A0D6BF8A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DE19A5-C5AB-43C2-92A8-AAFBE772FB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2B559F-577A-424C-B939-3D7B777A43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B5489D-DE28-44B8-AD02-5DC4BD15B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BA85269-AD4C-40D2-BE70-91EC959D2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6994E49-FBD8-40EB-B512-6A57ABC8C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046E5A-0AF7-40C4-A810-1A658AF41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8EE438-51DB-403E-A909-71DD0502D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9201224-5B76-4072-9FF3-1888A6379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72F3755-B0BF-48AD-9E6E-8A0A2F3FC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87B87B-A04A-4BF5-8098-E8B669694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E0526-D20B-4B26-B941-4F5CF80A7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997AFD-36FD-4C8A-96B5-9965E443E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0DD630-5764-4013-BC36-34339CFD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AF02C9-28D2-4C2C-9612-027CBBDF7E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A8257-D47C-46EF-9C6C-5F5D0B3356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22FE5-0C36-4381-B0CD-0FF4C2DB8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31202-007B-4B33-8CB9-C4F35B9CD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07C85-6076-40BF-AF71-7194F921B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F8DE6-D11E-4BA2-BB66-CF08E0A9D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7198C-A2A1-429B-B4D0-63BD072E6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BEA86-5DAB-49F2-9CDF-8115DA2B3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D9900-1359-4AA9-8904-2CD318ADF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39AFA-9BDB-48CD-A935-6BFC31B39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651BC-210E-4B3C-A9B0-70DDF9A70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8E93B-949A-469F-BEFA-BAD9530D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A7C28-0CD4-4C39-9892-098DD0A0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896A8-18F3-4C94-A224-518B051336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91AA55-5805-4AEE-BFB1-742CCB6684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5FE00B-E6BF-4A73-B093-7A819AA9C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ED60AC-A06A-492C-BB3E-708289D09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75532A-C1F9-4F48-A147-7B3463A01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BE8F0B-E960-4BA5-8400-8435E7D28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B6F75-DB24-4907-963E-58EB25842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C9720F-782F-4692-AA51-C4E45BD66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7FB8A7-6F00-4E0F-926C-0787E1F6F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00320B-2342-4228-B35E-226FF2846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302DCA-8A67-4BC5-B8EC-58588DB41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A418B6-FEDD-46E3-81D0-29E5E2F2F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5C8729-7129-4124-8583-8BA5CBF3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E3741E-080B-4CAC-96CE-F31F655F79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DF85577-1328-41DB-A2B1-2D7244DC17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CE11CD-0283-4DB0-870F-9EF560664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19A8B60-AB55-4CE9-8222-ED06240BF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3836A-C41B-4AE4-B45C-9B89E573FF6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464EF-7D1D-4ED1-B805-C8AD661364B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F2D89-F454-4E14-BF5E-7B3005F4891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3FA52-88E9-4694-9AA2-4685775B23B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1028F-A0CF-496D-9346-C5198DE9FBB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081B7-49F4-40CB-9611-8D95A1BC684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AFB21-C439-46BE-8D13-07958187313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CFC9B-429E-498F-BDC1-3BE9E5B1FAF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27FD6-2771-416F-A141-FDE0A73C6B5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96C2F-4AD3-4ED7-A431-9101CEA8F49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49F84-AF8C-401E-A30A-EE59CCBE69F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DD6C3-452C-437E-9568-E6C903B0C00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C4DE1-0EAB-4A3C-AB3B-51BB5392FA0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5EA6E-06DB-419E-BB29-4EC7DF1BBED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F31ED-C6F8-4E4F-A5C1-B1B5F542A0A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8DF6A-73FE-45BA-8648-B1579CE15BE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AF9F2-DF1B-4534-AC7A-21991E7164F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2EB95-22DF-42D0-9B76-A1498D9534E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D3FAC-DECC-463C-8240-4ED103C404F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64B6A-9146-4937-A991-1DF1B659729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CFC79-A2DA-4E5F-85AA-B6F947AD36F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94ED1-CDF5-4367-A349-4B4FE2733CA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9F682-7FE1-49BB-862C-652B5CEAB10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846A8-0A0C-487D-B4C0-C48464A7920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二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3035160" y="2827440"/>
            <a:ext cx="559080" cy="4633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352440" y="2798640"/>
            <a:ext cx="84456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29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en-US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解 决 问 题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284560" y="2448000"/>
            <a:ext cx="4321080" cy="360"/>
            <a:chOff x="2284560" y="2448000"/>
            <a:chExt cx="4321080" cy="360"/>
          </a:xfrm>
        </p:grpSpPr>
        <p:sp>
          <p:nvSpPr>
            <p:cNvPr id="990" name="Line 10"/>
            <p:cNvSpPr/>
            <p:nvPr/>
          </p:nvSpPr>
          <p:spPr>
            <a:xfrm>
              <a:off x="2284560" y="2448000"/>
              <a:ext cx="432108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>
              <a:off x="2284560" y="2448000"/>
              <a:ext cx="4321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307800" y="1744560"/>
            <a:ext cx="611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长度单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"/>
          <p:cNvSpPr txBox="1"/>
          <p:nvPr/>
        </p:nvSpPr>
        <p:spPr>
          <a:xfrm>
            <a:off x="365040" y="747360"/>
            <a:ext cx="8755200" cy="544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辨一辨（对的在括号里打“√”，错的打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×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一张单人床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米。          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一块橡皮擦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厘米。    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一支自动水笔的长是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厘米。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小红爸爸的身高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米。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长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米的木棒要比长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厘米的铁丝短一些。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4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45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46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47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8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50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1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2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3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4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55" name="Text Box 72"/>
          <p:cNvSpPr/>
          <p:nvPr/>
        </p:nvSpPr>
        <p:spPr>
          <a:xfrm>
            <a:off x="8106840" y="181440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 Box 72"/>
          <p:cNvSpPr/>
          <p:nvPr/>
        </p:nvSpPr>
        <p:spPr>
          <a:xfrm>
            <a:off x="8169840" y="2278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Text Box 72"/>
          <p:cNvSpPr/>
          <p:nvPr/>
        </p:nvSpPr>
        <p:spPr>
          <a:xfrm>
            <a:off x="8106840" y="266688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Text Box 72"/>
          <p:cNvSpPr/>
          <p:nvPr/>
        </p:nvSpPr>
        <p:spPr>
          <a:xfrm>
            <a:off x="8169840" y="31608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Text Box 72"/>
          <p:cNvSpPr/>
          <p:nvPr/>
        </p:nvSpPr>
        <p:spPr>
          <a:xfrm>
            <a:off x="8169840" y="35910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"/>
          <p:cNvSpPr txBox="1"/>
          <p:nvPr/>
        </p:nvSpPr>
        <p:spPr>
          <a:xfrm>
            <a:off x="365040" y="844200"/>
            <a:ext cx="8229600" cy="52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、选一选（把正确答案的序号填在括号里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下面三条线中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    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线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①        ②         ③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要知道学校的操场有多长，应该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    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来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三角尺     ②米尺    ③卷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你的椅子大约高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厘米    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一棵树的高度大约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(   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厘米      ②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1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62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63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64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5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6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7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8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9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0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1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72" name="未知"/>
          <p:cNvSpPr/>
          <p:nvPr/>
        </p:nvSpPr>
        <p:spPr>
          <a:xfrm>
            <a:off x="932040" y="2571840"/>
            <a:ext cx="554040" cy="352440"/>
          </a:xfrm>
          <a:custGeom>
            <a:avLst/>
            <a:gdLst/>
            <a:ahLst/>
            <a:rect l="l" t="t" r="r" b="b"/>
            <a:pathLst>
              <a:path w="154" h="98">
                <a:moveTo>
                  <a:pt x="0" y="0"/>
                </a:moveTo>
                <a:cubicBezTo>
                  <a:pt x="5" y="13"/>
                  <a:pt x="7" y="50"/>
                  <a:pt x="38" y="69"/>
                </a:cubicBezTo>
                <a:cubicBezTo>
                  <a:pt x="68" y="88"/>
                  <a:pt x="131" y="94"/>
                  <a:pt x="154" y="9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3" name="Group 19"/>
          <p:cNvGrpSpPr/>
          <p:nvPr/>
        </p:nvGrpSpPr>
        <p:grpSpPr>
          <a:xfrm>
            <a:off x="2155680" y="2571840"/>
            <a:ext cx="532080" cy="366120"/>
            <a:chOff x="2155680" y="2571840"/>
            <a:chExt cx="532080" cy="366120"/>
          </a:xfrm>
        </p:grpSpPr>
        <p:sp>
          <p:nvSpPr>
            <p:cNvPr id="1174" name="Line 20"/>
            <p:cNvSpPr/>
            <p:nvPr/>
          </p:nvSpPr>
          <p:spPr>
            <a:xfrm flipH="1">
              <a:off x="2183760" y="2610000"/>
              <a:ext cx="459000" cy="300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AutoShape 21"/>
            <p:cNvSpPr/>
            <p:nvPr/>
          </p:nvSpPr>
          <p:spPr>
            <a:xfrm>
              <a:off x="2651760" y="2571840"/>
              <a:ext cx="36000" cy="3600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AutoShape 22"/>
            <p:cNvSpPr/>
            <p:nvPr/>
          </p:nvSpPr>
          <p:spPr>
            <a:xfrm>
              <a:off x="2155680" y="2901960"/>
              <a:ext cx="36000" cy="3600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7" name="Group 15"/>
          <p:cNvGrpSpPr/>
          <p:nvPr/>
        </p:nvGrpSpPr>
        <p:grpSpPr>
          <a:xfrm>
            <a:off x="3462840" y="2455920"/>
            <a:ext cx="452880" cy="487080"/>
            <a:chOff x="3462840" y="2455920"/>
            <a:chExt cx="452880" cy="487080"/>
          </a:xfrm>
        </p:grpSpPr>
        <p:sp>
          <p:nvSpPr>
            <p:cNvPr id="1178" name="AutoShape 16"/>
            <p:cNvSpPr/>
            <p:nvPr/>
          </p:nvSpPr>
          <p:spPr>
            <a:xfrm>
              <a:off x="3822480" y="2455920"/>
              <a:ext cx="36000" cy="3600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AutoShape 17"/>
            <p:cNvSpPr/>
            <p:nvPr/>
          </p:nvSpPr>
          <p:spPr>
            <a:xfrm>
              <a:off x="3517560" y="2907000"/>
              <a:ext cx="36000" cy="3600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未知"/>
            <p:cNvSpPr/>
            <p:nvPr/>
          </p:nvSpPr>
          <p:spPr>
            <a:xfrm rot="3000000">
              <a:off x="3632040" y="2451600"/>
              <a:ext cx="114120" cy="495360"/>
            </a:xfrm>
            <a:custGeom>
              <a:avLst/>
              <a:gdLst/>
              <a:ahLst/>
              <a:rect l="l" t="t" r="r" b="b"/>
              <a:pathLst>
                <a:path w="180" h="936">
                  <a:moveTo>
                    <a:pt x="0" y="0"/>
                  </a:moveTo>
                  <a:cubicBezTo>
                    <a:pt x="90" y="104"/>
                    <a:pt x="180" y="208"/>
                    <a:pt x="180" y="312"/>
                  </a:cubicBezTo>
                  <a:cubicBezTo>
                    <a:pt x="180" y="416"/>
                    <a:pt x="0" y="520"/>
                    <a:pt x="0" y="624"/>
                  </a:cubicBezTo>
                  <a:cubicBezTo>
                    <a:pt x="0" y="728"/>
                    <a:pt x="150" y="884"/>
                    <a:pt x="180" y="936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1" name="文本框 1"/>
          <p:cNvSpPr/>
          <p:nvPr/>
        </p:nvSpPr>
        <p:spPr>
          <a:xfrm>
            <a:off x="3583440" y="1938240"/>
            <a:ext cx="49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文本框 2"/>
          <p:cNvSpPr/>
          <p:nvPr/>
        </p:nvSpPr>
        <p:spPr>
          <a:xfrm>
            <a:off x="6429600" y="2968560"/>
            <a:ext cx="49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文本框 3"/>
          <p:cNvSpPr/>
          <p:nvPr/>
        </p:nvSpPr>
        <p:spPr>
          <a:xfrm>
            <a:off x="3566520" y="3994200"/>
            <a:ext cx="49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文本框 4"/>
          <p:cNvSpPr/>
          <p:nvPr/>
        </p:nvSpPr>
        <p:spPr>
          <a:xfrm>
            <a:off x="4439880" y="5006880"/>
            <a:ext cx="49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Text Box 14"/>
          <p:cNvSpPr/>
          <p:nvPr/>
        </p:nvSpPr>
        <p:spPr>
          <a:xfrm>
            <a:off x="4765680" y="2868480"/>
            <a:ext cx="2923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方正北魏楷书简体"/>
              </a:rPr>
              <a:t>你知道它的高度是多少吗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9" name="Picture 25" descr="旗杆"/>
          <p:cNvPicPr/>
          <p:nvPr/>
        </p:nvPicPr>
        <p:blipFill>
          <a:blip r:embed="rId1"/>
          <a:stretch/>
        </p:blipFill>
        <p:spPr>
          <a:xfrm>
            <a:off x="1760400" y="708120"/>
            <a:ext cx="1470240" cy="5643360"/>
          </a:xfrm>
          <a:prstGeom prst="rect">
            <a:avLst/>
          </a:prstGeom>
          <a:ln w="0">
            <a:noFill/>
          </a:ln>
        </p:spPr>
      </p:pic>
      <p:grpSp>
        <p:nvGrpSpPr>
          <p:cNvPr id="1000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01" name="圆角矩形 5" descr=""/>
            <p:cNvPicPr/>
            <p:nvPr/>
          </p:nvPicPr>
          <p:blipFill>
            <a:blip r:embed="rId2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2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03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5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6" name="椭圆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2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9" name="圆角矩形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0" name="圆角矩形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11" name="Text Box 5"/>
          <p:cNvSpPr/>
          <p:nvPr/>
        </p:nvSpPr>
        <p:spPr>
          <a:xfrm>
            <a:off x="466560" y="117360"/>
            <a:ext cx="28832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ffff"/>
                </a:solidFill>
                <a:latin typeface="Arial"/>
                <a:ea typeface="宋体"/>
              </a:rPr>
              <a:t>一、新知导入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文本框 1"/>
          <p:cNvSpPr/>
          <p:nvPr/>
        </p:nvSpPr>
        <p:spPr>
          <a:xfrm>
            <a:off x="3708360" y="1252440"/>
            <a:ext cx="521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根旗杆的高度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厘米还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米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八边形 7"/>
          <p:cNvSpPr/>
          <p:nvPr/>
        </p:nvSpPr>
        <p:spPr>
          <a:xfrm>
            <a:off x="600120" y="851040"/>
            <a:ext cx="523800" cy="51732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15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6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17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18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9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0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1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2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3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4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025" name="组合 2"/>
          <p:cNvGrpSpPr/>
          <p:nvPr/>
        </p:nvGrpSpPr>
        <p:grpSpPr>
          <a:xfrm>
            <a:off x="385920" y="890640"/>
            <a:ext cx="1883880" cy="459720"/>
            <a:chOff x="385920" y="890640"/>
            <a:chExt cx="1883880" cy="459720"/>
          </a:xfrm>
        </p:grpSpPr>
        <p:sp>
          <p:nvSpPr>
            <p:cNvPr id="1026" name="TextBox 3"/>
            <p:cNvSpPr/>
            <p:nvPr/>
          </p:nvSpPr>
          <p:spPr>
            <a:xfrm>
              <a:off x="490320" y="890640"/>
              <a:ext cx="177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zh-CN" sz="2400" spc="-1" strike="noStrike">
                  <a:solidFill>
                    <a:srgbClr val="00b0f0"/>
                  </a:solidFill>
                  <a:latin typeface="Arial"/>
                  <a:ea typeface="宋体"/>
                </a:rPr>
                <a:t>理解题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缺角矩形 37"/>
            <p:cNvSpPr/>
            <p:nvPr/>
          </p:nvSpPr>
          <p:spPr>
            <a:xfrm>
              <a:off x="385920" y="1011240"/>
              <a:ext cx="215640" cy="215640"/>
            </a:xfrm>
            <a:custGeom>
              <a:avLst/>
              <a:gdLst>
                <a:gd name="textAreaLeft" fmla="*/ 25200 w 215640"/>
                <a:gd name="textAreaRight" fmla="*/ 190440 w 215640"/>
                <a:gd name="textAreaTop" fmla="*/ 25200 h 215640"/>
                <a:gd name="textAreaBottom" fmla="*/ 19044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8000" y="21600"/>
                  </a:lnTo>
                  <a:arcTo wR="3600" hR="3600" stAng="10800000" swAng="5400000"/>
                  <a:lnTo>
                    <a:pt x="216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b0f0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8" name="文本框 4"/>
          <p:cNvSpPr/>
          <p:nvPr/>
        </p:nvSpPr>
        <p:spPr>
          <a:xfrm>
            <a:off x="344520" y="1233360"/>
            <a:ext cx="849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要判断旗杆的高度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厘米还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米，要依据我们头脑中形成的米和厘米的长度单位空间观念，结合物体的实际长度，选用正确的长度单位表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9" name="组合 38"/>
          <p:cNvGrpSpPr/>
          <p:nvPr/>
        </p:nvGrpSpPr>
        <p:grpSpPr>
          <a:xfrm>
            <a:off x="390600" y="3151080"/>
            <a:ext cx="2147400" cy="459720"/>
            <a:chOff x="390600" y="3151080"/>
            <a:chExt cx="2147400" cy="459720"/>
          </a:xfrm>
        </p:grpSpPr>
        <p:sp>
          <p:nvSpPr>
            <p:cNvPr id="1030" name="TextBox 3"/>
            <p:cNvSpPr/>
            <p:nvPr/>
          </p:nvSpPr>
          <p:spPr>
            <a:xfrm>
              <a:off x="495000" y="3151080"/>
              <a:ext cx="20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zh-CN" sz="2400" spc="-1" strike="noStrike">
                  <a:solidFill>
                    <a:srgbClr val="00b0f0"/>
                  </a:solidFill>
                  <a:latin typeface="Arial"/>
                  <a:ea typeface="宋体"/>
                </a:rPr>
                <a:t>解法探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缺角矩形 40"/>
            <p:cNvSpPr/>
            <p:nvPr/>
          </p:nvSpPr>
          <p:spPr>
            <a:xfrm>
              <a:off x="390600" y="3271680"/>
              <a:ext cx="215640" cy="215640"/>
            </a:xfrm>
            <a:custGeom>
              <a:avLst/>
              <a:gdLst>
                <a:gd name="textAreaLeft" fmla="*/ 25200 w 215640"/>
                <a:gd name="textAreaRight" fmla="*/ 190440 w 215640"/>
                <a:gd name="textAreaTop" fmla="*/ 25200 h 215640"/>
                <a:gd name="textAreaBottom" fmla="*/ 19044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8000" y="21600"/>
                  </a:lnTo>
                  <a:arcTo wR="3600" hR="3600" stAng="10800000" swAng="5400000"/>
                  <a:lnTo>
                    <a:pt x="216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b0f0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2" name="文本框 6"/>
          <p:cNvSpPr/>
          <p:nvPr/>
        </p:nvSpPr>
        <p:spPr>
          <a:xfrm>
            <a:off x="487440" y="3670200"/>
            <a:ext cx="832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认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厘米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米的长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厘米在尺子上是一格，一根手指大约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厘米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厘米就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根手指并排起来的宽度，大约相当于小朋友一拃的长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3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34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5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36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7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8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9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0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1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2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3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44" name="文本框 1"/>
          <p:cNvSpPr/>
          <p:nvPr/>
        </p:nvSpPr>
        <p:spPr>
          <a:xfrm>
            <a:off x="571680" y="835200"/>
            <a:ext cx="803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用一拃的长度和旗杆的高度比一比，显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厘米不合适。旗杆比一个小朋友的身高高很多，相当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小朋友的身高，所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米比较合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41"/>
          <p:cNvGrpSpPr/>
          <p:nvPr/>
        </p:nvGrpSpPr>
        <p:grpSpPr>
          <a:xfrm>
            <a:off x="808200" y="2905200"/>
            <a:ext cx="2147400" cy="459720"/>
            <a:chOff x="808200" y="2905200"/>
            <a:chExt cx="2147400" cy="459720"/>
          </a:xfrm>
        </p:grpSpPr>
        <p:sp>
          <p:nvSpPr>
            <p:cNvPr id="1046" name="TextBox 3"/>
            <p:cNvSpPr/>
            <p:nvPr/>
          </p:nvSpPr>
          <p:spPr>
            <a:xfrm>
              <a:off x="912600" y="2905200"/>
              <a:ext cx="20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zh-CN" sz="2400" spc="-1" strike="noStrike">
                  <a:solidFill>
                    <a:srgbClr val="00b0f0"/>
                  </a:solidFill>
                  <a:latin typeface="Arial"/>
                  <a:ea typeface="宋体"/>
                </a:rPr>
                <a:t>规范解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缺角矩形 43"/>
            <p:cNvSpPr/>
            <p:nvPr/>
          </p:nvSpPr>
          <p:spPr>
            <a:xfrm>
              <a:off x="808200" y="3025800"/>
              <a:ext cx="215640" cy="215640"/>
            </a:xfrm>
            <a:custGeom>
              <a:avLst/>
              <a:gdLst>
                <a:gd name="textAreaLeft" fmla="*/ 25200 w 215640"/>
                <a:gd name="textAreaRight" fmla="*/ 190440 w 215640"/>
                <a:gd name="textAreaTop" fmla="*/ 25200 h 215640"/>
                <a:gd name="textAreaBottom" fmla="*/ 19044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8000" y="21600"/>
                  </a:lnTo>
                  <a:arcTo wR="3600" hR="3600" stAng="10800000" swAng="5400000"/>
                  <a:lnTo>
                    <a:pt x="216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b0f0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8" name="文本框 6"/>
          <p:cNvSpPr/>
          <p:nvPr/>
        </p:nvSpPr>
        <p:spPr>
          <a:xfrm>
            <a:off x="824040" y="3498840"/>
            <a:ext cx="778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旗杆的高度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Text Box 56"/>
          <p:cNvSpPr/>
          <p:nvPr/>
        </p:nvSpPr>
        <p:spPr>
          <a:xfrm>
            <a:off x="1709280" y="2870280"/>
            <a:ext cx="5487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Arial"/>
                <a:ea typeface="宋体"/>
              </a:rPr>
              <a:t>（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zh-CN" sz="3000" spc="-1" strike="noStrike">
                <a:solidFill>
                  <a:srgbClr val="0000ff"/>
                </a:solidFill>
                <a:latin typeface="Arial"/>
                <a:ea typeface="宋体"/>
              </a:rPr>
              <a:t>）</a:t>
            </a:r>
            <a:r>
              <a:rPr b="0" lang="zh-CN" sz="3000" spc="-1" strike="noStrike">
                <a:solidFill>
                  <a:srgbClr val="0000cc"/>
                </a:solidFill>
                <a:latin typeface="宋体"/>
                <a:ea typeface="宋体"/>
              </a:rPr>
              <a:t>选择合适的单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我们的教室长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      ）      黑板长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明身高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2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       ）       课桌高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9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Text Box 57"/>
          <p:cNvSpPr/>
          <p:nvPr/>
        </p:nvSpPr>
        <p:spPr>
          <a:xfrm>
            <a:off x="1129680" y="1655640"/>
            <a:ext cx="337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宋体"/>
                <a:ea typeface="宋体"/>
              </a:rPr>
              <a:t>（</a:t>
            </a:r>
            <a:r>
              <a:rPr b="0" lang="en-US" sz="30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0" lang="zh-CN" sz="3000" spc="-1" strike="noStrike">
                <a:solidFill>
                  <a:srgbClr val="0000ff"/>
                </a:solidFill>
                <a:latin typeface="宋体"/>
                <a:ea typeface="宋体"/>
              </a:rPr>
              <a:t>）教材第</a:t>
            </a:r>
            <a:r>
              <a:rPr b="0" lang="en-US" sz="3000" spc="-1" strike="noStrike">
                <a:solidFill>
                  <a:srgbClr val="0000ff"/>
                </a:solidFill>
                <a:latin typeface="宋体"/>
              </a:rPr>
              <a:t>7</a:t>
            </a:r>
            <a:r>
              <a:rPr b="0" lang="zh-CN" sz="3000" spc="-1" strike="noStrike">
                <a:solidFill>
                  <a:srgbClr val="0000ff"/>
                </a:solidFill>
                <a:latin typeface="宋体"/>
                <a:ea typeface="宋体"/>
              </a:rPr>
              <a:t>页“做一做”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Text Box 58"/>
          <p:cNvSpPr/>
          <p:nvPr/>
        </p:nvSpPr>
        <p:spPr>
          <a:xfrm>
            <a:off x="3857760" y="3743280"/>
            <a:ext cx="40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Text Box 59"/>
          <p:cNvSpPr/>
          <p:nvPr/>
        </p:nvSpPr>
        <p:spPr>
          <a:xfrm>
            <a:off x="3502080" y="446400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厘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ext Box 60"/>
          <p:cNvSpPr/>
          <p:nvPr/>
        </p:nvSpPr>
        <p:spPr>
          <a:xfrm>
            <a:off x="7386480" y="3743280"/>
            <a:ext cx="40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Text Box 61"/>
          <p:cNvSpPr/>
          <p:nvPr/>
        </p:nvSpPr>
        <p:spPr>
          <a:xfrm>
            <a:off x="7390080" y="446868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厘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5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56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57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58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9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0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1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2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3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4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5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66" name="Text Box 5"/>
          <p:cNvSpPr/>
          <p:nvPr/>
        </p:nvSpPr>
        <p:spPr>
          <a:xfrm>
            <a:off x="466560" y="117360"/>
            <a:ext cx="288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二、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7" name="组合 2"/>
          <p:cNvGrpSpPr/>
          <p:nvPr/>
        </p:nvGrpSpPr>
        <p:grpSpPr>
          <a:xfrm>
            <a:off x="-46080" y="87480"/>
            <a:ext cx="3245040" cy="527040"/>
            <a:chOff x="-46080" y="87480"/>
            <a:chExt cx="3245040" cy="527040"/>
          </a:xfrm>
        </p:grpSpPr>
        <p:pic>
          <p:nvPicPr>
            <p:cNvPr id="1068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04400" y="87480"/>
              <a:ext cx="309456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69" name="组合 4"/>
            <p:cNvGrpSpPr/>
            <p:nvPr/>
          </p:nvGrpSpPr>
          <p:grpSpPr>
            <a:xfrm>
              <a:off x="-46080" y="182520"/>
              <a:ext cx="430200" cy="274680"/>
              <a:chOff x="-46080" y="182520"/>
              <a:chExt cx="430200" cy="274680"/>
            </a:xfrm>
          </p:grpSpPr>
          <p:sp>
            <p:nvSpPr>
              <p:cNvPr id="1070" name="椭圆 11"/>
              <p:cNvSpPr/>
              <p:nvPr/>
            </p:nvSpPr>
            <p:spPr>
              <a:xfrm rot="16200000">
                <a:off x="197280" y="347400"/>
                <a:ext cx="99360" cy="120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1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172080" y="310680"/>
                <a:ext cx="212040" cy="11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2" name="椭圆 29"/>
              <p:cNvSpPr/>
              <p:nvPr/>
            </p:nvSpPr>
            <p:spPr>
              <a:xfrm rot="16200000">
                <a:off x="197280" y="220320"/>
                <a:ext cx="99360" cy="120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3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172080" y="197280"/>
                <a:ext cx="212040" cy="11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4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-46080" y="326880"/>
                <a:ext cx="35676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5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-46080" y="298440"/>
                <a:ext cx="35676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6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-46080" y="210600"/>
                <a:ext cx="35676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7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-46080" y="182520"/>
                <a:ext cx="356760" cy="100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78" name="Text Box 69"/>
          <p:cNvSpPr/>
          <p:nvPr/>
        </p:nvSpPr>
        <p:spPr>
          <a:xfrm>
            <a:off x="539640" y="1459080"/>
            <a:ext cx="829008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填空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支铅笔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         ）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本书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操场的旗杆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         ）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根粉笔长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Text Box 72"/>
          <p:cNvSpPr/>
          <p:nvPr/>
        </p:nvSpPr>
        <p:spPr>
          <a:xfrm>
            <a:off x="3073680" y="2195640"/>
            <a:ext cx="5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厘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Text Box 74"/>
          <p:cNvSpPr/>
          <p:nvPr/>
        </p:nvSpPr>
        <p:spPr>
          <a:xfrm>
            <a:off x="6993360" y="2195640"/>
            <a:ext cx="5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厘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Text Box 75"/>
          <p:cNvSpPr/>
          <p:nvPr/>
        </p:nvSpPr>
        <p:spPr>
          <a:xfrm>
            <a:off x="7660080" y="2909880"/>
            <a:ext cx="5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厘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Text Box 83"/>
          <p:cNvSpPr/>
          <p:nvPr/>
        </p:nvSpPr>
        <p:spPr>
          <a:xfrm>
            <a:off x="3554640" y="2921040"/>
            <a:ext cx="37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Text Box 70"/>
          <p:cNvSpPr/>
          <p:nvPr/>
        </p:nvSpPr>
        <p:spPr>
          <a:xfrm>
            <a:off x="611280" y="642960"/>
            <a:ext cx="8083440" cy="50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这是小明早上写的一篇日记，我们一起来看一看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早晨，我从</a:t>
            </a:r>
            <a:r>
              <a:rPr b="0" lang="en-US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厘米长的床上起床，用</a:t>
            </a:r>
            <a:r>
              <a:rPr b="0" lang="en-US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米长的牙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刷牙，</a:t>
            </a:r>
            <a:r>
              <a:rPr b="0" lang="en-US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80</a:t>
            </a:r>
            <a:r>
              <a:rPr b="0" lang="zh-CN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厘米长的毛巾洗脸。吃完早饭，急忙骑上自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车，以每分钟</a:t>
            </a:r>
            <a:r>
              <a:rPr b="0" lang="en-US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厘米的速度到离家</a:t>
            </a:r>
            <a:r>
              <a:rPr b="0" lang="en-US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500</a:t>
            </a:r>
            <a:r>
              <a:rPr b="0" lang="zh-CN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厘米远的学校去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上学，路上还碰到了身高</a:t>
            </a:r>
            <a:r>
              <a:rPr b="0" lang="en-US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165</a:t>
            </a:r>
            <a:r>
              <a:rPr b="0" lang="zh-CN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米的王老师。到了学校，我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上拿出厚</a:t>
            </a:r>
            <a:r>
              <a:rPr b="0" lang="en-US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米的课本看起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         </a:t>
            </a:r>
            <a:r>
              <a:rPr b="0" lang="zh-CN" sz="3600" spc="-1" strike="noStrike">
                <a:solidFill>
                  <a:srgbClr val="0070c0"/>
                </a:solidFill>
                <a:latin typeface="方正楷体简体"/>
                <a:ea typeface="方正楷体简体"/>
              </a:rPr>
              <a:t>哪里出错了？请你改一改。</a:t>
            </a:r>
            <a:r>
              <a:rPr b="0" lang="en-US" sz="2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Text Box 76"/>
          <p:cNvSpPr/>
          <p:nvPr/>
        </p:nvSpPr>
        <p:spPr>
          <a:xfrm>
            <a:off x="3203640" y="1835280"/>
            <a:ext cx="647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方正楷体简体"/>
              </a:rPr>
              <a:t>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Text Box 78"/>
          <p:cNvSpPr/>
          <p:nvPr/>
        </p:nvSpPr>
        <p:spPr>
          <a:xfrm>
            <a:off x="6526440" y="1844640"/>
            <a:ext cx="455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方正楷体简体"/>
              </a:rPr>
              <a:t>厘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Text Box 80"/>
          <p:cNvSpPr/>
          <p:nvPr/>
        </p:nvSpPr>
        <p:spPr>
          <a:xfrm>
            <a:off x="6269040" y="3244680"/>
            <a:ext cx="588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方正楷体简体"/>
              </a:rPr>
              <a:t>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Text Box 81"/>
          <p:cNvSpPr/>
          <p:nvPr/>
        </p:nvSpPr>
        <p:spPr>
          <a:xfrm>
            <a:off x="3396960" y="3308400"/>
            <a:ext cx="317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方正楷体简体"/>
              </a:rPr>
              <a:t>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Rectangle 85"/>
          <p:cNvSpPr/>
          <p:nvPr/>
        </p:nvSpPr>
        <p:spPr>
          <a:xfrm>
            <a:off x="684360" y="3308400"/>
            <a:ext cx="315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Text Box 86"/>
          <p:cNvSpPr/>
          <p:nvPr/>
        </p:nvSpPr>
        <p:spPr>
          <a:xfrm>
            <a:off x="4892760" y="4363920"/>
            <a:ext cx="455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方正楷体简体"/>
              </a:rPr>
              <a:t>厘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Text Box 86"/>
          <p:cNvSpPr/>
          <p:nvPr/>
        </p:nvSpPr>
        <p:spPr>
          <a:xfrm>
            <a:off x="2486160" y="5483160"/>
            <a:ext cx="455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方正楷体简体"/>
              </a:rPr>
              <a:t>厘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直接连接符 17"/>
          <p:cNvSpPr/>
          <p:nvPr/>
        </p:nvSpPr>
        <p:spPr>
          <a:xfrm>
            <a:off x="3214800" y="1558800"/>
            <a:ext cx="642960" cy="2145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直接连接符 20"/>
          <p:cNvSpPr/>
          <p:nvPr/>
        </p:nvSpPr>
        <p:spPr>
          <a:xfrm>
            <a:off x="6299280" y="2997360"/>
            <a:ext cx="433440" cy="215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直接连接符 21"/>
          <p:cNvSpPr/>
          <p:nvPr/>
        </p:nvSpPr>
        <p:spPr>
          <a:xfrm>
            <a:off x="6572160" y="1558800"/>
            <a:ext cx="285840" cy="2145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直接连接符 23"/>
          <p:cNvSpPr/>
          <p:nvPr/>
        </p:nvSpPr>
        <p:spPr>
          <a:xfrm>
            <a:off x="3348000" y="2924280"/>
            <a:ext cx="503280" cy="288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直接连接符 24"/>
          <p:cNvSpPr/>
          <p:nvPr/>
        </p:nvSpPr>
        <p:spPr>
          <a:xfrm>
            <a:off x="4978440" y="4071960"/>
            <a:ext cx="285840" cy="21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直接连接符 25"/>
          <p:cNvSpPr/>
          <p:nvPr/>
        </p:nvSpPr>
        <p:spPr>
          <a:xfrm>
            <a:off x="2570040" y="5183280"/>
            <a:ext cx="285840" cy="21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7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98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99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00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1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2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3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4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5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6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7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09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10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11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12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3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1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19" name="Rectangle 64"/>
          <p:cNvSpPr/>
          <p:nvPr/>
        </p:nvSpPr>
        <p:spPr>
          <a:xfrm>
            <a:off x="365040" y="76320"/>
            <a:ext cx="29466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三、课堂小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TextBox 32"/>
          <p:cNvSpPr/>
          <p:nvPr/>
        </p:nvSpPr>
        <p:spPr>
          <a:xfrm>
            <a:off x="158760" y="1341360"/>
            <a:ext cx="84488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表示物体的高度或长度，一定要看清单位前面的数，二要用正确的单位。当物体比较长时，选用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米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作单位比较合适，较短时，用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厘米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作单位合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"/>
          <p:cNvSpPr txBox="1"/>
          <p:nvPr/>
        </p:nvSpPr>
        <p:spPr>
          <a:xfrm>
            <a:off x="425520" y="1003320"/>
            <a:ext cx="83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、在（   ）里填上适当的单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黑板长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(     )                6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窗户的高大约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小刀长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(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)               7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图钉的长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）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电视屏幕宽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9(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)     8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语文书长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电视塔高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20(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          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红领巾最长的边长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    ）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课桌的长大约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）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筷子长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2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23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24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25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26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7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28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9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0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1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2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33" name="Text Box 72"/>
          <p:cNvSpPr/>
          <p:nvPr/>
        </p:nvSpPr>
        <p:spPr>
          <a:xfrm>
            <a:off x="2262960" y="1558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Text Box 72"/>
          <p:cNvSpPr/>
          <p:nvPr/>
        </p:nvSpPr>
        <p:spPr>
          <a:xfrm>
            <a:off x="2238840" y="2062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Text Box 72"/>
          <p:cNvSpPr/>
          <p:nvPr/>
        </p:nvSpPr>
        <p:spPr>
          <a:xfrm>
            <a:off x="3156480" y="2557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Text Box 72"/>
          <p:cNvSpPr/>
          <p:nvPr/>
        </p:nvSpPr>
        <p:spPr>
          <a:xfrm>
            <a:off x="2908080" y="3054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Text Box 72"/>
          <p:cNvSpPr/>
          <p:nvPr/>
        </p:nvSpPr>
        <p:spPr>
          <a:xfrm>
            <a:off x="4033440" y="35751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Text Box 72"/>
          <p:cNvSpPr/>
          <p:nvPr/>
        </p:nvSpPr>
        <p:spPr>
          <a:xfrm>
            <a:off x="7738920" y="1552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Text Box 72"/>
          <p:cNvSpPr/>
          <p:nvPr/>
        </p:nvSpPr>
        <p:spPr>
          <a:xfrm>
            <a:off x="7121880" y="2052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 Box 72"/>
          <p:cNvSpPr/>
          <p:nvPr/>
        </p:nvSpPr>
        <p:spPr>
          <a:xfrm>
            <a:off x="6920280" y="2554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 Box 72"/>
          <p:cNvSpPr/>
          <p:nvPr/>
        </p:nvSpPr>
        <p:spPr>
          <a:xfrm>
            <a:off x="8198280" y="3078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 Box 72"/>
          <p:cNvSpPr/>
          <p:nvPr/>
        </p:nvSpPr>
        <p:spPr>
          <a:xfrm>
            <a:off x="7401600" y="3597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5T01:28:53Z</dcterms:created>
  <dc:creator/>
  <dc:description/>
  <dc:language>en-US</dc:language>
  <cp:lastModifiedBy>万润仪器贸易公司</cp:lastModifiedBy>
  <dcterms:modified xsi:type="dcterms:W3CDTF">2020-08-21T00:26:29Z</dcterms:modified>
  <cp:revision>4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